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DFD-D414-45FF-B847-E82F8614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2AA-8ACF-4B5C-8795-1AD1C63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3E3-E80B-48A4-BE2D-B92BDD72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D49-FCA5-4B0B-8046-697AA9EA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B44-597E-4489-828C-9DBB902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EBD-DCBA-49C8-89DE-2A72ABC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F1B-E707-4407-B057-F2B42A3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63F-1E9B-4834-9A72-A6963C8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A47-88F0-4A09-8A27-DDFDE40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D0F-767B-42B9-B1EE-87A6699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C8A-3149-4A14-B6B6-3B22F93D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C62-49F6-4DB7-B211-A732760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A52B-0CD3-4E45-9122-A9E24343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476280"/>
            <a:ext cx="7632720" cy="57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you come 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your books to the description of your family that you wrote on 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e your book and move 2 people to your left (to your right if sat in the front 2 t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PENCIL check for the following elements and correct WHER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ing someone’s age = tiene…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ying someone’s name = se lla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ying someone’s birthday= su cumpleaños es el… 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someone’s personality =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REEMENTS!! E.g. mi hermana ES diver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iene bar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bar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1000080" cy="352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5003640" y="2276280"/>
            <a:ext cx="720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iene big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big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981000" cy="356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 flipV="1">
            <a:off x="5003280" y="2133720"/>
            <a:ext cx="10796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leva gaf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levo gaf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56000" y="1557360"/>
            <a:ext cx="936720" cy="3455640"/>
            <a:chOff x="4356000" y="1557360"/>
            <a:chExt cx="936720" cy="3455640"/>
          </a:xfrm>
        </p:grpSpPr>
        <p:sp>
          <p:nvSpPr>
            <p:cNvPr id="105" name=""/>
            <p:cNvSpPr/>
            <p:nvPr/>
          </p:nvSpPr>
          <p:spPr>
            <a:xfrm>
              <a:off x="4500720" y="1557360"/>
              <a:ext cx="792000" cy="10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9280" y="25732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427280" y="3608640"/>
              <a:ext cx="431640" cy="14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9280" y="3634200"/>
              <a:ext cx="289080" cy="137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356000" y="304236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3042360"/>
              <a:ext cx="36036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643280" y="1916280"/>
            <a:ext cx="216000" cy="144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916280"/>
            <a:ext cx="216000" cy="144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858920" y="1989000"/>
            <a:ext cx="73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48360" y="1916280"/>
            <a:ext cx="144360" cy="7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500720" y="1844280"/>
            <a:ext cx="1425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292720" y="1988640"/>
            <a:ext cx="71928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0920" y="260280"/>
            <a:ext cx="709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ido Jaime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cias por tu carta. Tienes una familia muy interesante. Mi familia es un poco fastidiosa. Mi padre tiene los ojos azules y está completamente calvo, es decir que no tiene pelo, también lleva barba y gafas. ¡Afortunadamente no me parezco mucho a mi padre! Sin embargo, mi madre es muy guapa: tiene los ojos verdes y el pelo moreno y es bastante alta y delgada, ¡me encanta mi madre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 soy una mezcla de mi padre y mi madre: soy de talla mediana, como mi padre, y tengo los ojos verdes, como mi mad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os y ¡escríbeme pronto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Mi familia"/>
          <p:cNvPicPr/>
          <p:nvPr/>
        </p:nvPicPr>
        <p:blipFill>
          <a:blip r:embed="rId1"/>
          <a:stretch/>
        </p:blipFill>
        <p:spPr>
          <a:xfrm>
            <a:off x="106200" y="333360"/>
            <a:ext cx="183060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587700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gafas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595008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barba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950080"/>
            <a:ext cx="648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una mezcla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4324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Elena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- looks like her father     B- doesn’t like how her mother looks     C- looks like both her father and 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32400"/>
            <a:ext cx="8893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5. Elena’s mother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is tall and thin    B- has blonde hair and blue eyes            C- is of averag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516640"/>
            <a:ext cx="8280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6. El padre de Elena e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muy guapo      B- no tiene pelo   C- es bastante al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589720"/>
            <a:ext cx="6480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7. How does Elena describe her famil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fortunate     B- interesting   C- b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19640" y="404640"/>
            <a:ext cx="3024000" cy="60217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y hij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t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y hija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404640"/>
            <a:ext cx="3024000" cy="60217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id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ez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sm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ez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ve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0280"/>
            <a:ext cx="2843280" cy="94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tate, sen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the members of the family and characterist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describe someone physical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ad together a description of someone’s fami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341360"/>
            <a:ext cx="6696360" cy="304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bastant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uy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n poco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 b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alt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26028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alt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56000" y="1052640"/>
            <a:ext cx="936720" cy="3960360"/>
            <a:chOff x="4356000" y="1052640"/>
            <a:chExt cx="936720" cy="3960360"/>
          </a:xfrm>
        </p:grpSpPr>
        <p:sp>
          <p:nvSpPr>
            <p:cNvPr id="51" name=""/>
            <p:cNvSpPr/>
            <p:nvPr/>
          </p:nvSpPr>
          <p:spPr>
            <a:xfrm>
              <a:off x="4500720" y="1052640"/>
              <a:ext cx="792000" cy="116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9280" y="2216880"/>
              <a:ext cx="0" cy="13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427280" y="3403800"/>
              <a:ext cx="431640" cy="16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59280" y="3432600"/>
              <a:ext cx="289080" cy="158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356000" y="2754360"/>
              <a:ext cx="50328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9280" y="2754360"/>
              <a:ext cx="36036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median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median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56000" y="1557360"/>
            <a:ext cx="936720" cy="3455640"/>
            <a:chOff x="4356000" y="1557360"/>
            <a:chExt cx="936720" cy="3455640"/>
          </a:xfrm>
        </p:grpSpPr>
        <p:sp>
          <p:nvSpPr>
            <p:cNvPr id="60" name=""/>
            <p:cNvSpPr/>
            <p:nvPr/>
          </p:nvSpPr>
          <p:spPr>
            <a:xfrm>
              <a:off x="4500720" y="1557360"/>
              <a:ext cx="792000" cy="10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9280" y="25732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427280" y="3608640"/>
              <a:ext cx="431640" cy="14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59280" y="3634200"/>
              <a:ext cx="289080" cy="137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56000" y="304236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59280" y="3042360"/>
              <a:ext cx="36036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baj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baj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56000" y="2852640"/>
            <a:ext cx="936720" cy="2160720"/>
            <a:chOff x="4356000" y="2852640"/>
            <a:chExt cx="936720" cy="2160720"/>
          </a:xfrm>
        </p:grpSpPr>
        <p:sp>
          <p:nvSpPr>
            <p:cNvPr id="69" name=""/>
            <p:cNvSpPr/>
            <p:nvPr/>
          </p:nvSpPr>
          <p:spPr>
            <a:xfrm>
              <a:off x="4500720" y="2852640"/>
              <a:ext cx="792000" cy="63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348768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427280" y="4135320"/>
              <a:ext cx="43164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59280" y="4151160"/>
              <a:ext cx="28908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356000" y="3781080"/>
              <a:ext cx="5032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9280" y="3781080"/>
              <a:ext cx="36036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delga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delga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56000" y="1628640"/>
            <a:ext cx="936720" cy="3168720"/>
            <a:chOff x="4356000" y="1628640"/>
            <a:chExt cx="936720" cy="3168720"/>
          </a:xfrm>
        </p:grpSpPr>
        <p:sp>
          <p:nvSpPr>
            <p:cNvPr id="78" name=""/>
            <p:cNvSpPr/>
            <p:nvPr/>
          </p:nvSpPr>
          <p:spPr>
            <a:xfrm>
              <a:off x="4500720" y="1628640"/>
              <a:ext cx="792000" cy="79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59280" y="24210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427280" y="3860640"/>
              <a:ext cx="431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3860640"/>
              <a:ext cx="289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356000" y="2997360"/>
              <a:ext cx="503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59280" y="299736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 flipV="1">
            <a:off x="4932360" y="3573000"/>
            <a:ext cx="1511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gor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gor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1628640"/>
            <a:ext cx="79200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27280" y="386064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860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066920" y="2924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92428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48360" y="3499920"/>
            <a:ext cx="1511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2421000"/>
            <a:ext cx="792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2:07:50Z</dcterms:created>
  <dc:creator>Owner1</dc:creator>
  <dc:description/>
  <dc:language>en-US</dc:language>
  <cp:lastModifiedBy>Owner1</cp:lastModifiedBy>
  <dcterms:modified xsi:type="dcterms:W3CDTF">2008-12-08T17:26:20Z</dcterms:modified>
  <cp:revision>5</cp:revision>
  <dc:subject/>
  <dc:title>Slide 1</dc:title>
</cp:coreProperties>
</file>